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3F9-24D4-41E2-AB17-F7FA138B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E88-816C-4D0A-804A-00B64AF8E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5B91-CE57-4E13-A106-2069568BC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1D2D-72B4-4577-9FFD-94F07B747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3746-970B-4A47-9C6D-52F560386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3EA0-60F6-4A40-9F91-96B6A0D6E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C172-E1E5-4534-987D-C3E18A2EE0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9B1B-16EC-4B96-8E6D-432CD3AEB6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1AEF-174E-4F48-A234-E0ADFAD46B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9B49-BF7F-46F6-929A-BE46FCD80B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2D07-BF25-4D97-9161-6070A63AAA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A3AE-B02F-4746-B0F0-EEFBCC91EC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5815-629B-4A67-80FC-7564FF8EB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09DA-10C3-43CD-A639-93139F968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D317-6ACD-492A-B92C-190F8C3BF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8B18-0F6D-4D06-848D-5C96EAD84B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5F40-8426-4C4F-87E1-72905E86BA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4FD1-7D0B-44E1-B42A-293943D68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016E-61B7-4A91-B7DC-32647A039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E8C7-4D57-45CC-9F1B-2D56F61E6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92AC-313D-4E86-AC6E-034B1FCD8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4C50-CEA9-4E16-8388-25C9FECAF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BE95-6E18-4A03-A743-22F22C6B3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6341-19A6-49F8-B8BC-E646B1413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1FC6-1DC3-4814-9D02-33F7A6205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33C9-C888-47A5-884D-F7E13052B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B25-C49F-46A9-8884-82B1A294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C70-D6EE-440B-B660-678501755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niversalservice.org/sl/applicants/step04/state-replacement-contracts.asp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173F-4A9E-4C92-976F-A31DC8DEE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iled Form 4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66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competitive bidding process based on FC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ich bids to compare on 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licant makes decision solely from bid responses received from their Form 470, then compare just those that provided a bid. (Some may have been using the SMC vehicle, others may no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licant proactively looks for “bids” by going to the State Contract, they must compare all available bidders on the 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Award Date = Date you decided to purchase off State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: Memorialize your decision to purchase off a State Contract in an email to yourself or the fi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718D-98E7-4D73-9F0D-F5F440B87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Among Multiple W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ble to show how provider was selected and be in compliance with FCC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not comparing ALL of the vendors on the multiple award schedule, be prepared to explain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of the eligible goods and services must be the primary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 mini-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4FB5-1812-4AAC-88CF-5F073ABA0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just pick the provider you used before? They are on the State 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not show that you compared all of the providers* based on FCC rules, then your funding may be den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nduct a mini-bid but don’t follow your ow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unding may be den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24000" y="59436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= see previous slides for guidance on selecting among multipl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BFB-20D6-452E-9CB5-9392146A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Replacement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tate Master Contract expires either before the fund year starts or during a fund year, you may be able cite a </a:t>
            </a:r>
            <a:r>
              <a:rPr b="0" lang="en-US" sz="28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State Replacement Contra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RC) on your F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0/Contract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tate Master Contract posted on a State Form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State Master Contract posted on a State Form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can make commitments using the SRC SPIN, but cannot pay invoices until a SPIN change to “real” provider has been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816C-D3EE-4596-B650-944BB400B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 Expir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know that State has filed 470, but the winning bidder has not yet been announced at the time of the window cl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can submit an FRN for 12 months of service under the expected State con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file based on pricing from expiring con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86A1-7C31-45A5-B514-927D2CA77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file for S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5800" y="1676520"/>
          <a:ext cx="7772400" cy="4267080"/>
        </p:xfrm>
        <a:graphic>
          <a:graphicData uri="http://schemas.openxmlformats.org/drawingml/2006/table">
            <a:tbl>
              <a:tblPr/>
              <a:tblGrid>
                <a:gridCol w="838080"/>
                <a:gridCol w="6934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470 from expiring State Master Con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PIN 143999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TATE REPLACEMENT as SP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SRC prefix to current Master Contract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ame account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D will be pre-populated based on Item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should be day after expiration of old Master Con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EC0C-636C-4FC5-A55C-0578CECAE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file for S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676520"/>
          <a:ext cx="7772400" cy="4221000"/>
        </p:xfrm>
        <a:graphic>
          <a:graphicData uri="http://schemas.openxmlformats.org/drawingml/2006/table">
            <a:tbl>
              <a:tblPr/>
              <a:tblGrid>
                <a:gridCol w="838080"/>
                <a:gridCol w="69343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D is July 1 of the fund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D will be end of the fund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copy of expiring SMC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entities that will be receiving servi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ring and non-recurring charges are limited to charges in expiring Master Contract. If there was no provision for one-time charges in old contract, cannot claim them for future contrac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467-34C0-4B5F-BF4A-425A40E53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SC Expires </a:t>
            </a:r>
            <a:r>
              <a:rPr b="1" lang="en-US" sz="4000" spc="-1" strike="noStrike">
                <a:solidFill>
                  <a:srgbClr val="000000"/>
                </a:solidFill>
                <a:latin typeface="ArialMT"/>
              </a:rPr>
              <a:t>During</a:t>
            </a: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 the 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File two separate F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One for current state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One for replacement state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Commitment can only be for 12 months of service over both F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7F0B-A6D0-417F-B546-D01ECD1A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How to file for SRC F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irst FRN, file using the contract details on the current state master con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second FRN, enter FRN details using the guidance for SRC expiring before the start of the fun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04DB-30D9-41FF-B458-07D1C48F4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RC SPIN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ate has signed and dated the new contract, then applicants can file a SPIN change to the official w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up the page of your FCDL with the SRC FRN and indicate the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3886200"/>
          <a:ext cx="7467480" cy="2041560"/>
        </p:xfrm>
        <a:graphic>
          <a:graphicData uri="http://schemas.openxmlformats.org/drawingml/2006/table">
            <a:tbl>
              <a:tblPr/>
              <a:tblGrid>
                <a:gridCol w="3657600"/>
                <a:gridCol w="3809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P 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P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ate Filed Form 470 #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tract Award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ervice Start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ervice End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xpiration Date of the Replacement Contr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ffective Date of the Replacement Contr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4889-C6AE-4589-A620-CBC09FC1E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Master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Files Form 470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placement Guid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3DB-449B-4C27-BCAC-00E48A6B9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RC SPIN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and date the page, include your contact information and submit to USAC either via email or by regular mail to Correspondence Uni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receive notification of the SPIN change, you can file your Form 48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959-DF3A-4343-81BE-FAB8B52B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isjudged the number of months of recurring service on either the old contract or SRC F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ministerial and clerical error corrections to resolve this until we issue the FC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ate never resolves the competitive bidding before the first FRN expir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llow you to continue with the old provider on a month-to-month basis until the new contract is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54E8-9D35-45BB-86DA-53B56D5F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ld state contract expires and the state ends up not signing a new con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llow you to finish out the year on a month-to-month basis with the old prov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like the new provider on the State Con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the SRC process, you agreed to abide by the State’s competitive bidding decision. You can’t change the SRC SPIN to a SPIN other than the winning bidder – including a previous provider if they didn’t win – because that would be a competitive bidding vio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419C-7FB1-438B-A834-4F974579E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ends up awarding to multiple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follow the guidance described earlier in the presentation on multiple win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ends up not filing a Form 470 for the new con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RC procedure can only be used if the State files a Form 470. Applicant-filed Forms 470 are not suffic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5D6D-3E57-47B4-A5F2-B1E2CCDA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BCA-0BAD-4D1C-8973-BBAD5F4FE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act must be signed and dated by the applicant prior to the Form 471 certification postmark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must not sign a contract before the Allowable Contract Award Date (C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s may sign before the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ate and/or local contract law doesn’t require signature and/or date, the applicant will be given the opportunity to complete a certification stat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rchase order may considered a contract ONLY if your state considers it a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CAF-568A-4902-A869-62CA2B1C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 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tract Exten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allowable when the option for contract extensions is stated in the original provision of the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nt must rebid the services (i.e., file a new Form 470) if contract extensions are not st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livery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recurring services may be voluntarily extended to permit delivery and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nts may request a service delivery extension from U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a Form 500 to notify USAC of the ext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54EC-80EF-4820-847C-CA82F1AD5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Master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master contract (SMC) is competitively bid and put in place by a state government for use by multiple entities in tha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SMCs involve State Purchasing Agency and an RF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on behalf of whole state – not just a consortium – and must be bid by a stat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EB3-8F62-4F2F-9E4A-82A446916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Master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vendor wins the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w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wards contract to several bid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limited by geography or other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Award Schedule (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wards contract for same goods and services to multiple vendors that can serve the sam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5701-BE13-4A25-8039-14CEE60D1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s &amp; State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rther documentation needed regarding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eilings (highest price you can 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ntracts expect end users to further negotiate “best and final.”  Applicants must retain documentation of the negotiations from each bidder, and comply with FCC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floors (lowest price you can 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additional work is needed by applicant to obtain specific pricing for the project from bidder(s). Must retain documentation and comply with FCC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3665-B0FF-4694-8498-B552F788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iled Form 4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ngle winner contracts, applicant does not have to justify vendor sel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winners always require vendor selection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limitation to single winner: document explanation in an e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ultiple vendors can provide the services to you, then you must conduct a mini-bid based on FCC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applicants must compare all available bidders in their mini-b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Award Date = Date you decided to purchase off State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: Memorialize your decision to purchase off a State Contract in an email to yourself or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7DEC-A426-4818-BB7F-563AF42C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-b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determine winning provider when there is more than one provider listed on the SMC that can provide the desired services to an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need to file another Form 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mply with all FCC Rules regarding vendor selection (i.e., most cost effective, price must be primary, cost-effectiven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5:31Z</dcterms:created>
  <dc:creator>Trial User</dc:creator>
  <dc:description/>
  <dc:language>en-US</dc:language>
  <cp:lastModifiedBy>lfullwood</cp:lastModifiedBy>
  <dcterms:modified xsi:type="dcterms:W3CDTF">2009-09-17T18:56:05Z</dcterms:modified>
  <cp:revision>239</cp:revision>
  <dc:subject/>
  <dc:title>State Contracts</dc:title>
</cp:coreProperties>
</file>